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5BF-6D6E-4EFE-B91D-B81128D2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98F-6AC8-45D1-B442-C5601944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A9F-A03C-42DE-A212-8A26CB24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6D7-FE67-40AB-9751-E70557B7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C03E-9732-449A-B8AF-1CE83022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F805-FE25-47A3-9116-A6789C10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8524-1077-4339-849A-5238B1F3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9C29-5703-45B9-8DDD-03A5C7BE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14C3-B34E-4151-9A9C-FAA45AC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8553-AF07-4376-8089-F7ACC27B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D49A-18CF-43D1-94C1-01A5152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156-685F-42A0-BF74-495B4169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BFF7-824C-48DD-BFE1-89D9E12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AF55-8B17-429D-89CB-ED02D1D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45CC-36AC-43E5-BFF7-A034775A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0B0E-2D18-4877-85B7-75BA6AE4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DDEF-D09D-4A6B-8091-C9345294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7D0-F810-4979-B5D2-5F2FC394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90D-3EF5-42EC-9F15-92F2E8C5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69B-4B99-479D-ADC2-66F0BA3B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D51-BC12-4DC3-9299-41B45123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3FD-81C7-4250-B50D-F903B55C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D42-57DC-409F-A5B2-90DD967D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579-3718-4888-BA8C-56B74D9F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385E-6AFB-422B-8E0D-5F3B0D239ECD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D024-872A-4549-B77C-B13DD5C42C33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0920" y="207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ROZSZERZANIE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UŁAMK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80920" y="998640"/>
            <a:ext cx="3286440" cy="557280"/>
            <a:chOff x="880920" y="998640"/>
            <a:chExt cx="3286440" cy="557280"/>
          </a:xfrm>
        </p:grpSpPr>
        <p:sp>
          <p:nvSpPr>
            <p:cNvPr id="99" name=""/>
            <p:cNvSpPr/>
            <p:nvPr/>
          </p:nvSpPr>
          <p:spPr>
            <a:xfrm>
              <a:off x="880920" y="1088280"/>
              <a:ext cx="32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Rozszerzamy ułam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672000" y="998640"/>
                  <a:ext cx="2156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880920" y="1088280"/>
              <a:ext cx="32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Rozszerzamy ułam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3672000" y="998640"/>
                  <a:ext cx="2156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3" name=""/>
          <p:cNvGraphicFramePr/>
          <p:nvPr/>
        </p:nvGraphicFramePr>
        <p:xfrm>
          <a:off x="2367000" y="1574640"/>
          <a:ext cx="486072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574640"/>
                    <a:ext cx="486072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16680" y="356364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tem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cznik i mianowni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86280" y="3429000"/>
                <a:ext cx="215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357720" y="3563640"/>
            <a:ext cx="59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nożyliśmy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stępnie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tem znowu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6640" y="41410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O ile rozszerzono ułame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6280" y="4643280"/>
          <a:ext cx="6705720" cy="17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6280" y="4643280"/>
                    <a:ext cx="670572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14" name=""/>
            <p:cNvSpPr/>
            <p:nvPr/>
          </p:nvSpPr>
          <p:spPr>
            <a:xfrm>
              <a:off x="1464120" y="1897560"/>
              <a:ext cx="6324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zszerzając ułamek należ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icznik i mianownik ułamk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omnożyć przez tą samą liczbę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różną od 0 i 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6:14Z</dcterms:modified>
  <cp:revision>42</cp:revision>
  <dc:subject/>
  <dc:title>Slajd 1</dc:title>
</cp:coreProperties>
</file>